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0103-0EA1-4AB7-B19A-FF112FFE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22F-DE55-4139-9036-B69811E7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8BC-EF9A-42FC-AC4C-2999808D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2605-D01A-4A19-B07E-DA1AD6FE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8DE-BC96-4350-B911-8E07BB19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A8C4-6596-4398-95C6-9B1CED82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694-ABE3-4A5F-9C3E-80D53429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BE08-13E0-4439-A576-D46AB8F1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AB9-864D-4E2F-A0F2-BEDF7778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A73B-B3E9-462F-9BFE-ABC5CF44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C61-D811-469A-B5FC-894EFEDE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BB84-DCD0-47F3-AE40-E7656E6B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C761-E8FD-4185-BA77-8E1ACF1DD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01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ebshots.com/g/66/495-sh/2237.html" TargetMode="External"/><Relationship Id="rId2" Type="http://schemas.openxmlformats.org/officeDocument/2006/relationships/hyperlink" Target="http://www.webshots.com/g/66/495-sh/2237.html" TargetMode="External"/><Relationship Id="rId3" Type="http://schemas.openxmlformats.org/officeDocument/2006/relationships/hyperlink" Target="http://images.webshots.com/scripts/PhotoDownload.fcgi?targetmode=&amp;photos=2237" TargetMode="External"/><Relationship Id="rId4" Type="http://schemas.openxmlformats.org/officeDocument/2006/relationships/hyperlink" Target="http://images.webshots.com/scripts/PhotoDownload.fcgi?targetmode=&amp;photos=2237" TargetMode="External"/><Relationship Id="rId5" Type="http://schemas.openxmlformats.org/officeDocument/2006/relationships/hyperlink" Target="http://images.webshots.com/scripts/PhotoDownload.fcgi?targetmode=&amp;photos=2237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360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502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2110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6376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9024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Monotype Corsiva"/>
              </a:rPr>
              <a:t>10 STRINGS FOR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ne for beau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4151160" cy="6172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ne for 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02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984480" cy="5943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ne for hon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08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4054680" cy="5943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nd a last one for long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1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438280" y="1066680"/>
            <a:ext cx="4097520" cy="5562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You should not keep this messag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05740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you send it to 2 persons, your wish will materialize during the year,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5 , it will be in three month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re than 15, it will materialize tomor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I am not superstitiou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But I know it is nice to receive strings 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If you get this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It’s because you are important to 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Send string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even to the one who send it to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mercialScript BT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29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763120" cy="5957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I offer you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A string for friend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362320" y="2895480"/>
            <a:ext cx="4342680" cy="2133000"/>
            <a:chOff x="2362320" y="2895480"/>
            <a:chExt cx="4342680" cy="2133000"/>
          </a:xfrm>
        </p:grpSpPr>
        <p:sp>
          <p:nvSpPr>
            <p:cNvPr id="52" name=""/>
            <p:cNvSpPr/>
            <p:nvPr/>
          </p:nvSpPr>
          <p:spPr>
            <a:xfrm>
              <a:off x="2362320" y="2895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62320" y="2895480"/>
              <a:ext cx="4342680" cy="21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76720" y="2932200"/>
            <a:ext cx="2128320" cy="1791720"/>
            <a:chOff x="3276720" y="2932200"/>
            <a:chExt cx="2128320" cy="1791720"/>
          </a:xfrm>
        </p:grpSpPr>
        <p:sp>
          <p:nvSpPr>
            <p:cNvPr id="56" name=""/>
            <p:cNvSpPr/>
            <p:nvPr/>
          </p:nvSpPr>
          <p:spPr>
            <a:xfrm>
              <a:off x="3276720" y="2932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76720" y="2932200"/>
              <a:ext cx="2128320" cy="17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5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2743200" y="685800"/>
            <a:ext cx="3435480" cy="5791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Another for lov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819520" y="685800"/>
            <a:ext cx="3450960" cy="5943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7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ne for mo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614680" y="609480"/>
            <a:ext cx="4019400" cy="6019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ne for happ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78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819520" y="609480"/>
            <a:ext cx="3906720" cy="6019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ne for popula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8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8382240" cy="5883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ne for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371600" y="2206800"/>
            <a:ext cx="6933960" cy="3355560"/>
            <a:chOff x="1371600" y="2206800"/>
            <a:chExt cx="6933960" cy="3355560"/>
          </a:xfrm>
        </p:grpSpPr>
        <p:sp>
          <p:nvSpPr>
            <p:cNvPr id="90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   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9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38280" y="609480"/>
            <a:ext cx="4356360" cy="6019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4:20:31Z</dcterms:created>
  <dc:creator>Sylvie Simoneau</dc:creator>
  <dc:description/>
  <dc:language>en-US</dc:language>
  <cp:lastModifiedBy>Michel Plouffe</cp:lastModifiedBy>
  <dcterms:modified xsi:type="dcterms:W3CDTF">2003-01-13T05:17:12Z</dcterms:modified>
  <cp:revision>36</cp:revision>
  <dc:subject/>
  <dc:title>Mots d’enfants</dc:title>
</cp:coreProperties>
</file>