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B2F-E701-44F4-A748-F99297B0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7D3-E9C0-4304-AB8C-3AB983D4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DDB-4939-4EA2-9146-CE4DBC3E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34A-8FE5-4FA8-993F-617086DC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54A-B166-4367-AFC4-563E6185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CD6-448D-4154-8B59-4D5B9443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9FD-ABE7-4A74-BDA6-8238BC6F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BFA-5F84-4BB1-89B4-FE54C9D6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AB2-F9D7-4ED3-A1EC-08558BB2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4AD-7641-43BC-9E12-A19941B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7FF-D1EC-463F-97C3-7FB1C95B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A2E-3211-430C-A569-36B6E62A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C3F9-36DF-4BC1-ACE7-B65D727C0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Monotype Corsiva"/>
              </a:rPr>
              <a:t>10 STRING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151160" cy="6172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98448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405468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nd a last one for long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4097520" cy="556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You should not keep this messag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you send it to 2 persons, your wish will materialize during the year,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5 , it will be in three month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 than 15, it will materialize tom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 am not superstitiou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But I know it is nice to receive strings 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If you get this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It’s because you are important to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end string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even to the one who send it to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mercialScript BT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2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5957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I offer you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A string for friend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2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6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743200" y="685800"/>
            <a:ext cx="3435480" cy="5791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Another for lo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345096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614680" y="609480"/>
            <a:ext cx="401940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19520" y="609480"/>
            <a:ext cx="390672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popu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382240" cy="5883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0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   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435636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Michel Plouffe</cp:lastModifiedBy>
  <dcterms:modified xsi:type="dcterms:W3CDTF">2003-01-13T05:17:12Z</dcterms:modified>
  <cp:revision>36</cp:revision>
  <dc:subject/>
  <dc:title>Mots d’enfants</dc:title>
</cp:coreProperties>
</file>