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37E-689B-4722-B16E-E9771D2C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B96-0579-4E95-B490-4361A03A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89D-7FAB-431B-AE91-EC119C45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445-B279-4850-BED7-21C3EB56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FA9-46D8-42B4-AD25-69B91251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8CE-F134-47AA-8A5F-4667F2AB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6E0-D926-4C46-8B5E-ED5A8265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4DA-E80C-4BC3-B504-0C20F377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522-6F6F-401A-87EC-6D7B6AAE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6CD-C4D8-43C0-B4ED-712F8A7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D74-1DB7-4BDE-9ACA-F392C24D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537-F28A-4831-8EB2-8FE31CB3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FDDD-818D-40D8-9C15-A0B3A295F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Monotype Corsiva"/>
              </a:rPr>
              <a:t>10 STRING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151160" cy="6172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98448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405468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nd a last one for long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4097520" cy="5562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You should not keep this messag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you send it to 2 persons, your wish will materialize during the year,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5 , it will be in three month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e than 15, it will materialize tom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 am not superstitiou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But I know it is nice to receive strings 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If you get this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It’s because you are important to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end string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even to the one who send it to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mercialScript BT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2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63120" cy="5957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I offer you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A string for friend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52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6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743200" y="685800"/>
            <a:ext cx="3435480" cy="5791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Another for lo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345096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614680" y="609480"/>
            <a:ext cx="401940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19520" y="609480"/>
            <a:ext cx="390672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popu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8382240" cy="5883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90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   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435636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Michel Plouffe</cp:lastModifiedBy>
  <dcterms:modified xsi:type="dcterms:W3CDTF">2003-01-13T05:17:12Z</dcterms:modified>
  <cp:revision>36</cp:revision>
  <dc:subject/>
  <dc:title>Mots d’enfants</dc:title>
</cp:coreProperties>
</file>