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0BD-B9BB-48F8-80A8-4A8DC579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548-22CC-4808-B231-C671EFE5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6CB-7ACF-4F8D-A331-29C8C9A1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D0D-F28C-4316-A1C3-9774429F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625-8CC1-4B43-9F24-4223CC06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5ED-0747-40F7-8D60-66A71D0A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97E-F723-4BB1-8546-A800C36C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858-7962-4AC0-A1F0-3B0EF876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7641-4507-45C5-BF23-AE7BD10E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772C-2653-4EEB-A04D-0F8121FD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24B-F404-4589-9706-F3C38362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0FF-9A87-43E5-A8E3-D858172A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4282-C8E5-40D9-A687-075F8DAA9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609480"/>
            <a:ext cx="72388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6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AMIGO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4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9" descr=""/>
          <p:cNvPicPr/>
          <p:nvPr/>
        </p:nvPicPr>
        <p:blipFill>
          <a:blip r:embed="rId1"/>
          <a:stretch/>
        </p:blipFill>
        <p:spPr>
          <a:xfrm>
            <a:off x="0" y="41904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14400" y="609480"/>
            <a:ext cx="72388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6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HAU..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4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1" descr=""/>
          <p:cNvPicPr/>
          <p:nvPr/>
        </p:nvPicPr>
        <p:blipFill>
          <a:blip r:embed="rId1"/>
          <a:stretch/>
        </p:blipFill>
        <p:spPr>
          <a:xfrm>
            <a:off x="2722680" y="0"/>
            <a:ext cx="369864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l2" descr=""/>
          <p:cNvPicPr/>
          <p:nvPr/>
        </p:nvPicPr>
        <p:blipFill>
          <a:blip r:embed="rId1"/>
          <a:stretch/>
        </p:blipFill>
        <p:spPr>
          <a:xfrm>
            <a:off x="2389320" y="0"/>
            <a:ext cx="436536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3" descr=""/>
          <p:cNvPicPr/>
          <p:nvPr/>
        </p:nvPicPr>
        <p:blipFill>
          <a:blip r:embed="rId1"/>
          <a:stretch/>
        </p:blipFill>
        <p:spPr>
          <a:xfrm>
            <a:off x="223200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4" descr=""/>
          <p:cNvPicPr/>
          <p:nvPr/>
        </p:nvPicPr>
        <p:blipFill>
          <a:blip r:embed="rId1"/>
          <a:stretch/>
        </p:blipFill>
        <p:spPr>
          <a:xfrm>
            <a:off x="225432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l5" descr="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768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l6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7" descr="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8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584496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4:42:12Z</dcterms:created>
  <dc:creator>rojast</dc:creator>
  <dc:description/>
  <dc:language>en-US</dc:language>
  <cp:lastModifiedBy>rojast</cp:lastModifiedBy>
  <dcterms:modified xsi:type="dcterms:W3CDTF">1999-11-16T14:52:22Z</dcterms:modified>
  <cp:revision>2</cp:revision>
  <dc:subject/>
  <dc:title>No Slide Title</dc:title>
</cp:coreProperties>
</file>