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C38-11FE-4608-82B4-CB257DAD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06F-2359-4ACB-B1AC-FDFCB0DD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CF4-111E-4BDC-83E5-ACDA1EE7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8CC-557A-40D1-B414-468C9442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DC2-2E07-407E-A0C0-3CDA567E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5A8-4772-4D81-A292-D8C5896F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4A7-DF79-4253-BD46-D7D8B302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C51-A5A1-4FE7-ACD6-AFDE9295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FBF-0690-46B0-8CAA-CA8A600D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5E6-9E2E-4DD9-A619-80091B9C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148-A309-4964-8890-646E0833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E7F-00CE-465D-889F-B362E8C9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BED5-0DE5-4766-B29D-67A93193A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609480"/>
            <a:ext cx="7238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6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AMIGO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4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9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14400" y="609480"/>
            <a:ext cx="7238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6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AU..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4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1" descr=""/>
          <p:cNvPicPr/>
          <p:nvPr/>
        </p:nvPicPr>
        <p:blipFill>
          <a:blip r:embed="rId1"/>
          <a:stretch/>
        </p:blipFill>
        <p:spPr>
          <a:xfrm>
            <a:off x="2722680" y="0"/>
            <a:ext cx="369864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2" descr=""/>
          <p:cNvPicPr/>
          <p:nvPr/>
        </p:nvPicPr>
        <p:blipFill>
          <a:blip r:embed="rId1"/>
          <a:stretch/>
        </p:blipFill>
        <p:spPr>
          <a:xfrm>
            <a:off x="2389320" y="0"/>
            <a:ext cx="436536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3" descr="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4" descr=""/>
          <p:cNvPicPr/>
          <p:nvPr/>
        </p:nvPicPr>
        <p:blipFill>
          <a:blip r:embed="rId1"/>
          <a:stretch/>
        </p:blipFill>
        <p:spPr>
          <a:xfrm>
            <a:off x="225432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5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l6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7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8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584496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4:42:12Z</dcterms:created>
  <dc:creator>rojast</dc:creator>
  <dc:description/>
  <dc:language>en-US</dc:language>
  <cp:lastModifiedBy>rojast</cp:lastModifiedBy>
  <dcterms:modified xsi:type="dcterms:W3CDTF">1999-11-16T14:52:22Z</dcterms:modified>
  <cp:revision>2</cp:revision>
  <dc:subject/>
  <dc:title>No Slide Title</dc:title>
</cp:coreProperties>
</file>