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6E8-1181-451E-9B9C-B6508BA5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05D-41F9-422B-8B00-2F54B470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983-724B-4A1F-A9E7-D1453190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24C-36FE-48E5-9D2C-496F4EF3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350-0356-47D0-A88E-54CF6461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D010-B766-45F5-88B9-34A371AD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763-9A0D-4754-B054-F25026F1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BEA-90C8-4AB1-AF6C-F02748F3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218-BE23-4AFC-A76B-C0265ADB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7B1-943C-401F-BBEF-6BEC0F5D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D54-8ABD-4AAD-BEEE-2C8428C3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4C5-4117-4DE0-AE58-CC17601C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E6E0-AF74-4C76-954F-2FF3016E2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609480"/>
            <a:ext cx="72388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6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AMIGO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4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9" descr="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14400" y="609480"/>
            <a:ext cx="72388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6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HAU..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4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1" descr=""/>
          <p:cNvPicPr/>
          <p:nvPr/>
        </p:nvPicPr>
        <p:blipFill>
          <a:blip r:embed="rId1"/>
          <a:stretch/>
        </p:blipFill>
        <p:spPr>
          <a:xfrm>
            <a:off x="2722680" y="0"/>
            <a:ext cx="369864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2" descr=""/>
          <p:cNvPicPr/>
          <p:nvPr/>
        </p:nvPicPr>
        <p:blipFill>
          <a:blip r:embed="rId1"/>
          <a:stretch/>
        </p:blipFill>
        <p:spPr>
          <a:xfrm>
            <a:off x="2389320" y="0"/>
            <a:ext cx="436536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3" descr=""/>
          <p:cNvPicPr/>
          <p:nvPr/>
        </p:nvPicPr>
        <p:blipFill>
          <a:blip r:embed="rId1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4" descr=""/>
          <p:cNvPicPr/>
          <p:nvPr/>
        </p:nvPicPr>
        <p:blipFill>
          <a:blip r:embed="rId1"/>
          <a:stretch/>
        </p:blipFill>
        <p:spPr>
          <a:xfrm>
            <a:off x="225432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l5" descr="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l6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7" descr="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8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584496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4:42:12Z</dcterms:created>
  <dc:creator>rojast</dc:creator>
  <dc:description/>
  <dc:language>en-US</dc:language>
  <cp:lastModifiedBy>rojast</cp:lastModifiedBy>
  <dcterms:modified xsi:type="dcterms:W3CDTF">1999-11-16T14:52:22Z</dcterms:modified>
  <cp:revision>2</cp:revision>
  <dc:subject/>
  <dc:title>No Slide Title</dc:title>
</cp:coreProperties>
</file>