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58F-A89B-47F4-9D8B-C761CB62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C23-AA94-42A0-BE3B-9521E7D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407-690D-4F5D-92F8-2C56303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B64-69FA-426E-A304-E1C36722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281-9804-41C0-866B-D22DC6C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3EF-BFC4-4952-A22D-2950F3C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CE5-6E87-4C88-9DC6-B48D379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CEC-67E9-442F-B9CD-49C667C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57E-C49C-43C8-B804-28F95195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195-FABD-4A6D-9E78-FC139C5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1CA-C556-42DE-B945-6A90C08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3DE-0CD5-4C4B-8361-555C8CD0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110-0676-4166-89D2-C01B9157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1604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02920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8534520" y="3505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838080" y="28954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909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4008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981080" y="3505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80010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0" y="5410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8153280" y="19051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905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1905120" y="228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0574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34520" y="5105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8006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195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3124080" y="1371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04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3962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33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048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079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91120" y="297180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dvent Calendar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91120" y="35053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002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54000"/>
            <a:ext cx="7925040" cy="675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1000"/>
            <a:ext cx="9144000" cy="61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13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76280"/>
            <a:ext cx="8839440" cy="59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8252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31640"/>
            <a:ext cx="8839440" cy="599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65160"/>
            <a:ext cx="8534160" cy="672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8:34:20Z</dcterms:created>
  <dc:creator>Thierry.D</dc:creator>
  <dc:description/>
  <dc:language>en-US</dc:language>
  <cp:lastModifiedBy>KMB LTD</cp:lastModifiedBy>
  <dcterms:modified xsi:type="dcterms:W3CDTF">2002-11-07T17:42:51Z</dcterms:modified>
  <cp:revision>20</cp:revision>
  <dc:subject>calendrier de l'avent</dc:subject>
  <dc:title>Présentation PowerPoint</dc:title>
</cp:coreProperties>
</file>