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C36-89E7-4F07-B093-AB217B2E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618-FAA1-4B24-BA7F-04CAD40F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FCA-5BCA-4062-BE7B-6EF47606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5CF-83BB-4983-9DC4-AC564620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CAB-4C09-41DB-A2F6-5F6AD00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B1A-7778-46DA-B251-51C7E59D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51E-35A9-45A0-8EEF-0E69D9D9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927-F1D6-4402-9798-AE0B0C9E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7A9-39C7-421C-A42E-A600713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06E-ABA0-4F7B-85D5-B146329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454-820F-4DFB-9CC2-A85F2B5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3DF-E46C-4071-B35B-067FDDB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A7F-FDE2-4DEC-952B-7CD475812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1604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02920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8534520" y="3505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838080" y="28954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909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4008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981080" y="3505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80010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0" y="5410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8153280" y="19051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905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1905120" y="228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0574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34520" y="5105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8006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8195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3124080" y="1371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04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3962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533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048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079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91120" y="297180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dvent Calendar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91120" y="35053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002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54000"/>
            <a:ext cx="7925040" cy="675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1000"/>
            <a:ext cx="9144000" cy="61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13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76280"/>
            <a:ext cx="8839440" cy="590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8252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8744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31640"/>
            <a:ext cx="8839440" cy="599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65160"/>
            <a:ext cx="8534160" cy="672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8:34:20Z</dcterms:created>
  <dc:creator>Thierry.D</dc:creator>
  <dc:description/>
  <dc:language>en-US</dc:language>
  <cp:lastModifiedBy>KMB LTD</cp:lastModifiedBy>
  <dcterms:modified xsi:type="dcterms:W3CDTF">2002-11-07T17:42:51Z</dcterms:modified>
  <cp:revision>20</cp:revision>
  <dc:subject>calendrier de l'avent</dc:subject>
  <dc:title>Présentation PowerPoint</dc:title>
</cp:coreProperties>
</file>