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9378-AADB-4BF2-808C-A8DE488B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D0D9-53BC-43DE-A119-531F513F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141F-D7D5-4534-975B-C284D689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B249-6FAD-4E3B-9AD6-4920D317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95FA-9C11-458B-84B7-F715486F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DAE7-1A46-4024-AECE-574F7F5B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451F-2464-43BB-841F-394FC2EA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11DB-01E3-47E6-A6CB-E7C39779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472E-5A6F-4E92-953E-BC29C3E1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E5E7-B13E-407B-9DB0-B15C3FB1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2D70-23B0-4EDD-9270-CE2F0223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E8E9-8606-4104-ACD8-3A865260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4466-3DEE-4755-93E3-7A65F2BF5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2.xml"/><Relationship Id="rId13" Type="http://schemas.openxmlformats.org/officeDocument/2006/relationships/slide" Target="slide22.xml"/><Relationship Id="rId14" Type="http://schemas.openxmlformats.org/officeDocument/2006/relationships/slide" Target="slide24.xml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1604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3896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5029200" y="4038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8534520" y="3505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838080" y="289548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259092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6400800" y="34290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1981080" y="3505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9" action="ppaction://hlinksldjump"/>
          </p:cNvPr>
          <p:cNvSpPr/>
          <p:nvPr/>
        </p:nvSpPr>
        <p:spPr>
          <a:xfrm>
            <a:off x="800100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0" action="ppaction://hlinksldjump"/>
          </p:cNvPr>
          <p:cNvSpPr/>
          <p:nvPr/>
        </p:nvSpPr>
        <p:spPr>
          <a:xfrm>
            <a:off x="0" y="54100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1" action="ppaction://hlinksldjump"/>
          </p:cNvPr>
          <p:cNvSpPr/>
          <p:nvPr/>
        </p:nvSpPr>
        <p:spPr>
          <a:xfrm>
            <a:off x="8153280" y="19051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1905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2" action="ppaction://hlinksldjump"/>
          </p:cNvPr>
          <p:cNvSpPr/>
          <p:nvPr/>
        </p:nvSpPr>
        <p:spPr>
          <a:xfrm>
            <a:off x="1905120" y="228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095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67480" y="380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20574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534520" y="51055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48006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8195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25909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3" action="ppaction://hlinksldjump"/>
          </p:cNvPr>
          <p:cNvSpPr/>
          <p:nvPr/>
        </p:nvSpPr>
        <p:spPr>
          <a:xfrm>
            <a:off x="3124080" y="1371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3049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4" action="ppaction://hlinksldjump"/>
          </p:cNvPr>
          <p:cNvSpPr/>
          <p:nvPr/>
        </p:nvSpPr>
        <p:spPr>
          <a:xfrm>
            <a:off x="3962520" y="42670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5335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30481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9079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191120" y="2971800"/>
            <a:ext cx="2057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Advent Calendar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191120" y="3505320"/>
            <a:ext cx="533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0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2002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1112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54000"/>
            <a:ext cx="7925040" cy="675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26960"/>
            <a:ext cx="9144000" cy="6004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72960"/>
            <a:ext cx="9144000" cy="611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96720"/>
            <a:ext cx="9144000" cy="606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51000"/>
            <a:ext cx="9144000" cy="615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41360"/>
            <a:ext cx="9144000" cy="5973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476280"/>
            <a:ext cx="8839440" cy="590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82520"/>
            <a:ext cx="9144000" cy="6492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87440"/>
            <a:ext cx="9144000" cy="588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431640"/>
            <a:ext cx="8839440" cy="599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541440"/>
            <a:ext cx="9144000" cy="577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65160"/>
            <a:ext cx="8534160" cy="672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20760"/>
            <a:ext cx="9144000" cy="6216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297000"/>
            <a:ext cx="9144000" cy="626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26880"/>
            <a:ext cx="9144000" cy="620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8:34:20Z</dcterms:created>
  <dc:creator>Thierry.D</dc:creator>
  <dc:description/>
  <dc:language>en-US</dc:language>
  <cp:lastModifiedBy>KMB LTD</cp:lastModifiedBy>
  <dcterms:modified xsi:type="dcterms:W3CDTF">2002-11-07T17:42:51Z</dcterms:modified>
  <cp:revision>20</cp:revision>
  <dc:subject>calendrier de l'avent</dc:subject>
  <dc:title>Présentation PowerPoint</dc:title>
</cp:coreProperties>
</file>