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rypt%2031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355-4CE0-4B79-AED3-5492E805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9E8-46E2-4DC0-8A5A-1BECB247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F1D-A4D0-445E-9658-32AD3144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4E2-6B3F-45D3-9357-42DE7F8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5C2-947D-4409-B709-1284E03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D97-A889-4F38-A5AA-4F1446E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89F-03C3-4FE0-8358-155628E3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D18-A0A5-49F8-9FDD-4AFE42AB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DD9-F89C-4B19-B0FE-CD1F488A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07A-0780-4188-A743-B5E5817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11E-8468-4720-963F-820FB48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20C-F14E-42FA-84EB-025E3D0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2A5-3423-4E15-B0C2-361648E7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rypt%2031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Holdemqueen@hotmail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s That Will Cheer You U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aily you will breath in 1 liter of other peoples' anal gas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5401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GREAT DAY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ldemqueen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00440" cy="272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uring an hour's swimming at a municipal pool you will ingest 1/12 liter of urin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n average day your hands will have come into indirect contact with 15 penises (touching door handles etc.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8120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average person's yearly fast food intake will contain 12 pubic hai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year you will have swallowed 14 insects - while you slept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2160" y="2230560"/>
            <a:ext cx="4279680" cy="38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11 wo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33208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6 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2577960"/>
            <a:ext cx="31240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lifetime 22 workmen will have examined the contents of your dirty linen baske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97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an average wedding reception you have a 1/100 chance of getting a cold sore from one of the gues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7906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00:15:50Z</dcterms:created>
  <dc:creator>cindy</dc:creator>
  <dc:description/>
  <dc:language>en-US</dc:language>
  <cp:lastModifiedBy>cindy</cp:lastModifiedBy>
  <dcterms:modified xsi:type="dcterms:W3CDTF">2002-08-25T11:44:17Z</dcterms:modified>
  <cp:revision>4</cp:revision>
  <dc:subject/>
  <dc:title>During an hour's swimming at a municipal pool you will ingest 1/12 liter of urine. </dc:title>
</cp:coreProperties>
</file>