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rypt%2031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943-2867-4986-9AFC-25E772D8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2E2-AB2A-4FBC-9984-84654A4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AB8-6250-494F-A1A2-0D0D6661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32A-E1B7-47B7-BF5B-B4B914C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4B7-6BF3-42E0-8482-D0060D1F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B73-121C-4D6B-ACA4-33BF6FF8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3BC-D995-4B32-A8C2-4AD3085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FEC-A039-463D-90A0-03A4623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DC9-C803-4EE4-BF15-B7014D2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840-FE0E-4494-87D9-0D7D332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D7D-B82E-4576-8A1D-46DEDC1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CB1-0A92-4138-9D3E-EEB4B29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AAA-5130-4465-B830-4C41A483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rypt%2031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Holdemqueen@hotmail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s That Will Cheer You U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aily you will breath in 1 liter of other peoples' anal gas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5401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GREAT DAY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ldemqueen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00440" cy="272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uring an hour's swimming at a municipal pool you will ingest 1/12 liter of urin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n average day your hands will have come into indirect contact with 15 penises (touching door handles etc.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8120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average person's yearly fast food intake will contain 12 pubic hai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year you will have swallowed 14 insects - while you slept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2160" y="2230560"/>
            <a:ext cx="4279680" cy="38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11 wo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33208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6 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2577960"/>
            <a:ext cx="31240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lifetime 22 workmen will have examined the contents of your dirty linen baske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97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an average wedding reception you have a 1/100 chance of getting a cold sore from one of the gues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7906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00:15:50Z</dcterms:created>
  <dc:creator>cindy</dc:creator>
  <dc:description/>
  <dc:language>en-US</dc:language>
  <cp:lastModifiedBy>cindy</cp:lastModifiedBy>
  <dcterms:modified xsi:type="dcterms:W3CDTF">2002-08-25T11:44:17Z</dcterms:modified>
  <cp:revision>4</cp:revision>
  <dc:subject/>
  <dc:title>During an hour's swimming at a municipal pool you will ingest 1/12 liter of urine. </dc:title>
</cp:coreProperties>
</file>