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rypt%2031.wav" ContentType="audio/x-wav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C1F-69E6-4B77-ADA7-EE5ABEFF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F6F-079B-4BE1-B3BB-9D45F083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6FC-0345-4B50-9371-CE143844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453-C7A9-468C-864E-34937B14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4F8-18AF-45FF-81E8-71F7E0FE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1B3-3C84-46D2-83FA-E62CB8BA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ACF-FBC5-40D0-9CFC-179D7095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D76-6660-428C-B7B4-075788B1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DA7-D4E6-4162-957D-09C63FAB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46E-E559-4275-8446-CCB0404D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17B-C581-4480-8CE7-282E8DC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73B-1EF0-45DB-8CD1-0363BF0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38F0-5599-45CC-96C6-FD4E5DE55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rypt%2031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Holdemqueen@hotmail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s That Will Cheer You U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aily you will breath in 1 liter of other peoples' anal gas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25401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GREAT DAY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i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ldemqueen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800440" cy="272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uring an hour's swimming at a municipal pool you will ingest 1/12 liter of urin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n average day your hands will have come into indirect contact with 15 penises (touching door handles etc.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8120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average person's yearly fast food intake will contain 12 pubic hai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276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 year you will have swallowed 14 insects - while you slept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2160" y="2230560"/>
            <a:ext cx="4279680" cy="38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nually you will shake hands with 11 women who have recently masturbated and failed to wash their hand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2332080"/>
            <a:ext cx="3295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nually you will shake hands with 6 men who have recently masturbated and failed to wash their hand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2577960"/>
            <a:ext cx="31240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 lifetime 22 workmen will have examined the contents of your dirty linen baske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97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t an average wedding reception you have a 1/100 chance of getting a cold sore from one of the gues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7906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00:15:50Z</dcterms:created>
  <dc:creator>cindy</dc:creator>
  <dc:description/>
  <dc:language>en-US</dc:language>
  <cp:lastModifiedBy>cindy</cp:lastModifiedBy>
  <dcterms:modified xsi:type="dcterms:W3CDTF">2002-08-25T11:44:17Z</dcterms:modified>
  <cp:revision>4</cp:revision>
  <dc:subject/>
  <dc:title>During an hour's swimming at a municipal pool you will ingest 1/12 liter of urine. </dc:title>
</cp:coreProperties>
</file>